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6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1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2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9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0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1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6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5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6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0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705720" y="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3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4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1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2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3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8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49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6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7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58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nswe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69840" y="27669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Ministry of Education</cp:lastModifiedBy>
  <dcterms:modified xsi:type="dcterms:W3CDTF">2009-08-08T22:35:49Z</dcterms:modified>
  <cp:revision>18</cp:revision>
  <dc:subject/>
  <dc:title>No Slide Title</dc:title>
</cp:coreProperties>
</file>